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7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jpeg" ContentType="image/jpeg"/>
  <Override PartName="/ppt/media/image23.wmf" ContentType="image/x-wmf"/>
  <Override PartName="/ppt/media/image26.jpeg" ContentType="image/jpeg"/>
  <Override PartName="/ppt/media/image24.png" ContentType="image/png"/>
  <Override PartName="/ppt/media/image11.jpeg" ContentType="image/jpeg"/>
  <Override PartName="/ppt/media/image22.png" ContentType="image/png"/>
  <Override PartName="/ppt/media/image21.png" ContentType="image/png"/>
  <Override PartName="/ppt/media/image19.wmf" ContentType="image/x-wmf"/>
  <Override PartName="/ppt/media/image18.jpeg" ContentType="image/jpeg"/>
  <Override PartName="/ppt/media/image15.png" ContentType="image/png"/>
  <Override PartName="/ppt/media/image10.jpeg" ContentType="image/jpeg"/>
  <Override PartName="/ppt/media/image5.png" ContentType="image/png"/>
  <Override PartName="/ppt/media/image20.jpeg" ContentType="image/jpeg"/>
  <Override PartName="/ppt/media/image12.png" ContentType="image/png"/>
  <Override PartName="/ppt/media/image7.wmf" ContentType="image/x-wmf"/>
  <Override PartName="/ppt/media/image9.jpeg" ContentType="image/jpeg"/>
  <Override PartName="/ppt/media/image30.wmf" ContentType="image/x-wmf"/>
  <Override PartName="/ppt/media/image6.jpeg" ContentType="image/jpeg"/>
  <Override PartName="/ppt/media/image27.jpeg" ContentType="image/jpeg"/>
  <Override PartName="/ppt/media/image31.wmf" ContentType="image/x-wmf"/>
  <Override PartName="/ppt/media/image33.wmf" ContentType="image/x-wmf"/>
  <Override PartName="/ppt/media/image13.png" ContentType="image/png"/>
  <Override PartName="/ppt/media/image34.wmf" ContentType="image/x-wmf"/>
  <Override PartName="/ppt/media/image37.png" ContentType="image/png"/>
  <Override PartName="/ppt/media/image39.wmf" ContentType="image/x-wmf"/>
  <Override PartName="/ppt/media/image8.wmf" ContentType="image/x-wmf"/>
  <Override PartName="/ppt/media/image38.wmf" ContentType="image/x-wmf"/>
  <Override PartName="/ppt/media/image4.jpeg" ContentType="image/jpeg"/>
  <Override PartName="/ppt/media/image25.jpeg" ContentType="image/jpeg"/>
  <Override PartName="/ppt/media/image3.jpeg" ContentType="image/jpeg"/>
  <Override PartName="/ppt/media/image36.jpeg" ContentType="image/jpeg"/>
  <Override PartName="/ppt/media/image2.jpeg" ContentType="image/jpeg"/>
  <Override PartName="/ppt/media/image35.jpeg" ContentType="image/jpeg"/>
  <Override PartName="/ppt/media/image1.jpeg" ContentType="image/jpeg"/>
  <Override PartName="/ppt/media/image14.wmf" ContentType="image/x-wmf"/>
  <Override PartName="/ppt/media/image32.wmf" ContentType="image/x-wmf"/>
  <Override PartName="/ppt/media/image29.png" ContentType="image/png"/>
  <Override PartName="/ppt/media/image16.wmf" ContentType="image/x-wmf"/>
  <Override PartName="/ppt/media/image1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5D543-DA25-4873-B2E8-8938D22E60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E2A3B-6D9D-46CD-8D8D-338CAC80A3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6A34C-A12A-4483-8BD8-39C2F67005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728CA-A90C-41E0-B696-1EDA603EE3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462BA-DDED-4EDB-A02C-1B8ECBF59E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FCC7C-3A2E-4650-A7ED-E5C6B6E9D5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48C0E-2971-4718-AE99-A103CF5ED3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E7084-31D6-44BF-B3B0-A281592EC3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55A67-0E05-4DFE-96F9-03BF78510A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E205B-A8FF-4C58-A9CF-AE7F47F916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144AC-3335-4A05-AD96-48AD383EF2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65D00-25D5-4F9A-908C-91D0B5C34F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809BD-89C1-423E-AED9-2B0EC9692C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33505-D348-4F28-A5E5-6777B3E0E4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11D83-0097-457E-B4F2-A61B085843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52F20-1D20-470E-957B-4273510991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DAC95-8B49-4E20-9A3E-0770908C25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1347F-CCBF-4EC5-97EA-423C26DE67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C3F0E-E9A9-4FD8-8F81-BDB59EEF87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206B47-FE3E-468C-99D1-83AA41975B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C19309-0CED-4B5D-9F7E-71567342D0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6298F3-04EB-490F-B0D8-522E4759D8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C96BBE-042B-436D-A484-06AFD9A366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DC449-1E63-49CE-86ED-9DA33717C32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DD37E-D875-4F24-B2A5-2C7FD7845EB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54FE2-862A-413C-A091-6ED090516F8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F91CF-F251-4893-9744-534F69724AA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1BC37-5DB4-4B19-85FE-760F060EEF7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D51B5-ECE8-462D-8842-08D29DEEB56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9CD36-9EF8-4CF7-8017-04C4D264860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2F6DFB-DA6C-41EB-BB17-D210F2C1595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99BBF-6276-42FD-8AB6-3CFA6D7A679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DE316-10DE-40F2-803F-195093EAE5A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C101F-6F51-4744-B97D-55CAF21C734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9E890-14A2-46CC-893B-80325048B0C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BF73F-77AB-4A27-9ADC-364FC3C8A3B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22F3E7-1178-4ADF-BB51-CE0F4C3077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0BCED3-415F-4322-8F8E-BBD36A23F8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831F92-4F6E-4081-BF36-040FE50579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26785A-D641-4B54-89A9-685DB8F87C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C81C87-610D-4CEB-B33F-2CEECF4E96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D69B67-B55D-4D4E-B5C8-BF16B1061D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C56651-C706-4DC7-89B9-55CB691382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C5977-45AD-497E-9771-AFAA027D72C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0C545-7D5C-4031-9827-866E7B2A4BD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HHS-Logo-blue"/>
          <p:cNvPicPr/>
          <p:nvPr/>
        </p:nvPicPr>
        <p:blipFill>
          <a:blip r:embed="rId3"/>
          <a:stretch/>
        </p:blipFill>
        <p:spPr>
          <a:xfrm>
            <a:off x="426708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WHO-EN-C-H"/>
          <p:cNvPicPr/>
          <p:nvPr/>
        </p:nvPicPr>
        <p:blipFill>
          <a:blip r:embed="rId4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77240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jpeg"/><Relationship Id="rId3" Type="http://schemas.openxmlformats.org/officeDocument/2006/relationships/image" Target="../media/image19.wmf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wmf"/><Relationship Id="rId7" Type="http://schemas.openxmlformats.org/officeDocument/2006/relationships/image" Target="../media/image12.png"/><Relationship Id="rId8" Type="http://schemas.openxmlformats.org/officeDocument/2006/relationships/image" Target="../media/image24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image" Target="../media/image29.png"/><Relationship Id="rId5" Type="http://schemas.openxmlformats.org/officeDocument/2006/relationships/image" Target="../media/image29.png"/><Relationship Id="rId6" Type="http://schemas.openxmlformats.org/officeDocument/2006/relationships/image" Target="../media/image30.wmf"/><Relationship Id="rId7" Type="http://schemas.openxmlformats.org/officeDocument/2006/relationships/image" Target="../media/image31.wmf"/><Relationship Id="rId8" Type="http://schemas.openxmlformats.org/officeDocument/2006/relationships/image" Target="../media/image32.wmf"/><Relationship Id="rId9" Type="http://schemas.openxmlformats.org/officeDocument/2006/relationships/image" Target="../media/image33.wmf"/><Relationship Id="rId10" Type="http://schemas.openxmlformats.org/officeDocument/2006/relationships/image" Target="../media/image34.wmf"/><Relationship Id="rId1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wmf"/><Relationship Id="rId3" Type="http://schemas.openxmlformats.org/officeDocument/2006/relationships/image" Target="../media/image39.wmf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Assessment: Audits</a:t>
            </a:r>
            <a:endParaRPr b="0" lang="en-US" sz="4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933B9-ACD6-488A-A812-E864EEFAA10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udi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3059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Gather information about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cess, operating procedu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aff, equipment, test method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nvironment, handling of samp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quality control verification activi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rding and reporting practi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rcRect l="0" t="15625" r="0" b="0"/>
          <a:stretch/>
        </p:blipFill>
        <p:spPr>
          <a:xfrm>
            <a:off x="4419720" y="3886200"/>
            <a:ext cx="3906720" cy="247176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1828800" y="4114800"/>
            <a:ext cx="2133720" cy="2133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1EF9C4-B2FA-4287-B034-EA5982F99A7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pare findings with documented 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dentify breakdown in system or departure from procedur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o something with audit resul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udi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7AEA9B-BBB0-466F-A0A4-93845223B76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685800" y="1066680"/>
            <a:ext cx="7620120" cy="502920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228600" y="1523880"/>
            <a:ext cx="2895480" cy="152424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Health author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105520" y="914400"/>
            <a:ext cx="4038480" cy="1295280"/>
          </a:xfrm>
          <a:prstGeom prst="ellipse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ccreditation bo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943600" y="4343400"/>
            <a:ext cx="2819520" cy="190512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ublic health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80880" y="4495680"/>
            <a:ext cx="2895840" cy="1600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Arial"/>
              </a:rPr>
              <a:t>Fund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Arial"/>
              </a:rPr>
              <a:t>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xternal Audit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3301920" y="2133720"/>
            <a:ext cx="2594160" cy="312408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3276720" y="312408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88E361-4B3E-4A02-B2E9-2833D6CDE39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File"/>
          <p:cNvSpPr/>
          <p:nvPr/>
        </p:nvSpPr>
        <p:spPr>
          <a:xfrm>
            <a:off x="4724280" y="1600200"/>
            <a:ext cx="3276720" cy="182880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Organi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4876920" y="2743200"/>
            <a:ext cx="3885840" cy="2971440"/>
            <a:chOff x="4876920" y="2743200"/>
            <a:chExt cx="3885840" cy="2971440"/>
          </a:xfrm>
        </p:grpSpPr>
        <p:sp>
          <p:nvSpPr>
            <p:cNvPr id="234" name="Puzzle3"/>
            <p:cNvSpPr/>
            <p:nvPr/>
          </p:nvSpPr>
          <p:spPr>
            <a:xfrm>
              <a:off x="6769440" y="2743200"/>
              <a:ext cx="1527480" cy="1579320"/>
            </a:xfrm>
            <a:prstGeom prst="pie">
              <a:avLst/>
            </a:prstGeom>
            <a:solidFill>
              <a:srgbClr val="ffbe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Puzzle2"/>
            <p:cNvSpPr/>
            <p:nvPr/>
          </p:nvSpPr>
          <p:spPr>
            <a:xfrm>
              <a:off x="6324840" y="3893400"/>
              <a:ext cx="2437920" cy="1438200"/>
            </a:xfrm>
            <a:prstGeom prst="pie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Puzzle4"/>
            <p:cNvSpPr/>
            <p:nvPr/>
          </p:nvSpPr>
          <p:spPr>
            <a:xfrm>
              <a:off x="5381280" y="3875760"/>
              <a:ext cx="1469880" cy="1838880"/>
            </a:xfrm>
            <a:prstGeom prst="pie">
              <a:avLst/>
            </a:prstGeom>
            <a:solidFill>
              <a:srgbClr val="d8eb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Puzzle1"/>
            <p:cNvSpPr/>
            <p:nvPr/>
          </p:nvSpPr>
          <p:spPr>
            <a:xfrm>
              <a:off x="4876920" y="3220920"/>
              <a:ext cx="2468160" cy="1096200"/>
            </a:xfrm>
            <a:prstGeom prst="pi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533520" y="3581280"/>
            <a:ext cx="5234040" cy="2438280"/>
            <a:chOff x="533520" y="3581280"/>
            <a:chExt cx="5234040" cy="2438280"/>
          </a:xfrm>
        </p:grpSpPr>
        <p:pic>
          <p:nvPicPr>
            <p:cNvPr id="239" name="" descr=""/>
            <p:cNvPicPr/>
            <p:nvPr/>
          </p:nvPicPr>
          <p:blipFill>
            <a:blip r:embed="rId1"/>
            <a:stretch/>
          </p:blipFill>
          <p:spPr>
            <a:xfrm>
              <a:off x="4114800" y="4423680"/>
              <a:ext cx="1652760" cy="159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0" name="" descr=""/>
            <p:cNvPicPr/>
            <p:nvPr/>
          </p:nvPicPr>
          <p:blipFill>
            <a:blip r:embed="rId2"/>
            <a:stretch/>
          </p:blipFill>
          <p:spPr>
            <a:xfrm>
              <a:off x="533520" y="3581280"/>
              <a:ext cx="1606320" cy="206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"/>
            <p:cNvSpPr/>
            <p:nvPr/>
          </p:nvSpPr>
          <p:spPr>
            <a:xfrm>
              <a:off x="1905120" y="4227120"/>
              <a:ext cx="2377800" cy="10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buClr>
                  <a:srgbClr val="666699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Verdana"/>
                </a:rPr>
                <a:t>Schedule with staf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304920" y="304920"/>
            <a:ext cx="9144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xternal Audit Preparati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638680" y="4648320"/>
            <a:ext cx="320040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Gather information and 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838080" y="1523880"/>
            <a:ext cx="3123720" cy="2361960"/>
            <a:chOff x="838080" y="1523880"/>
            <a:chExt cx="3123720" cy="2361960"/>
          </a:xfrm>
        </p:grpSpPr>
        <p:pic>
          <p:nvPicPr>
            <p:cNvPr id="245" name="" descr=""/>
            <p:cNvPicPr/>
            <p:nvPr/>
          </p:nvPicPr>
          <p:blipFill>
            <a:blip r:embed="rId3"/>
            <a:stretch/>
          </p:blipFill>
          <p:spPr>
            <a:xfrm>
              <a:off x="838080" y="1523880"/>
              <a:ext cx="2935080" cy="23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"/>
            <p:cNvSpPr/>
            <p:nvPr/>
          </p:nvSpPr>
          <p:spPr>
            <a:xfrm>
              <a:off x="1405800" y="2226240"/>
              <a:ext cx="255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buClr>
                  <a:srgbClr val="ffff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fr-FR" sz="3600" spc="-1" strike="noStrike">
                  <a:solidFill>
                    <a:srgbClr val="ffffff"/>
                  </a:solidFill>
                  <a:latin typeface="Verdana"/>
                </a:rPr>
                <a:t>Plan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FFABFD-D919-4E55-A815-9FCC2E58130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xternal Audit Report and Plan of Action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5029200" y="2286000"/>
            <a:ext cx="3429000" cy="990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 algn="ctr">
              <a:lnSpc>
                <a:spcPct val="9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Identify gaps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28600" y="4267080"/>
            <a:ext cx="2971800" cy="1524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ecord results and action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Write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495680" y="3505320"/>
            <a:ext cx="3886200" cy="7617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Plan corrective 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09880" y="4495680"/>
            <a:ext cx="4419720" cy="1143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Develop time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Assign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495680" y="1295280"/>
            <a:ext cx="4419720" cy="8254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Laboratory understands recommend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914560" y="1219320"/>
            <a:ext cx="1524240" cy="761760"/>
          </a:xfrm>
          <a:custGeom>
            <a:avLst/>
            <a:gdLst>
              <a:gd name="textAreaLeft" fmla="*/ 237960 w 1524240"/>
              <a:gd name="textAreaRight" fmla="*/ 1333800 w 152424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rot="10800000">
            <a:off x="2438280" y="5409720"/>
            <a:ext cx="6400800" cy="838440"/>
          </a:xfrm>
          <a:custGeom>
            <a:avLst/>
            <a:gdLst>
              <a:gd name="textAreaLeft" fmla="*/ 1000080 w 6400800"/>
              <a:gd name="textAreaRight" fmla="*/ 5600880 w 6400800"/>
              <a:gd name="textAreaTop" fmla="*/ 209520 h 838440"/>
              <a:gd name="textAreaBottom" fmla="*/ 628920 h 8384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6705000" y="3276360"/>
            <a:ext cx="3657600" cy="762120"/>
          </a:xfrm>
          <a:custGeom>
            <a:avLst/>
            <a:gdLst>
              <a:gd name="textAreaLeft" fmla="*/ 571320 w 3657600"/>
              <a:gd name="textAreaRight" fmla="*/ 3200400 w 36576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57200" y="1219320"/>
            <a:ext cx="2438280" cy="266688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1447920"/>
            <a:ext cx="213372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uditor’s  closing summary and repor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0E7763-8E17-4358-9371-9AA46DC0537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248520" y="1371600"/>
            <a:ext cx="2361960" cy="197640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838080" y="1219320"/>
            <a:ext cx="1905120" cy="175248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6553080" y="91440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Flex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3"/>
          <a:stretch/>
        </p:blipFill>
        <p:spPr>
          <a:xfrm>
            <a:off x="4724280" y="2819520"/>
            <a:ext cx="1752840" cy="161136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/>
          <p:nvPr/>
        </p:nvSpPr>
        <p:spPr>
          <a:xfrm>
            <a:off x="6400800" y="350532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Verdana"/>
              </a:rPr>
              <a:t>Costs l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99072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ternal Aud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590920" y="4495680"/>
            <a:ext cx="655308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quired by ISO stand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ducted on a regular ba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ducted when problems identif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895480" y="1295280"/>
            <a:ext cx="2667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ook at your own proc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4"/>
          <a:stretch/>
        </p:blipFill>
        <p:spPr>
          <a:xfrm>
            <a:off x="533520" y="3581280"/>
            <a:ext cx="2552760" cy="2667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59086F-5769-4884-8894-A3A7ECC6FDD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Value of Internal Audi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epare for external audi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crease awarenes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portunity for improvement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eventive and corrective action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portunity for continuing educ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eting quality standa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ED313F-F749-4B68-A53C-7451C8F5A7B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Internal Audits:  ISO Requiremen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0" name=""/>
          <p:cNvSpPr/>
          <p:nvPr/>
        </p:nvSpPr>
        <p:spPr>
          <a:xfrm>
            <a:off x="457200" y="1752480"/>
            <a:ext cx="8381880" cy="36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st have an audit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st document 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uditors independent of 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sults documented and reported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nagement for re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mpt follow-up 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789E96-152A-4CC4-A9AC-A6E15E625BD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3886200" y="609480"/>
            <a:ext cx="5029200" cy="48769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029200" y="1447920"/>
            <a:ext cx="3657600" cy="2971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858000" y="5029200"/>
            <a:ext cx="2057400" cy="9907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Virolog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628240" y="2286000"/>
            <a:ext cx="3221280" cy="3047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3840443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3840443"/>
              </a:path>
            </a:pathLst>
          </a:custGeom>
          <a:gradFill rotWithShape="0">
            <a:gsLst>
              <a:gs pos="0">
                <a:srgbClr val="b27e5e"/>
              </a:gs>
              <a:gs pos="100000">
                <a:srgbClr val="523a2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O&amp;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rot="5400000">
            <a:off x="3810600" y="1371960"/>
            <a:ext cx="2589840" cy="3351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d9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Ur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rot="10800000">
            <a:off x="8077320" y="3429000"/>
            <a:ext cx="488880" cy="1752480"/>
          </a:xfrm>
          <a:prstGeom prst="downArrow">
            <a:avLst>
              <a:gd name="adj1" fmla="val 55843"/>
              <a:gd name="adj2" fmla="val 87111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nt. Au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rot="3939000">
            <a:off x="6400800" y="2057400"/>
            <a:ext cx="457200" cy="1524240"/>
          </a:xfrm>
          <a:prstGeom prst="downArrow">
            <a:avLst>
              <a:gd name="adj1" fmla="val 50000"/>
              <a:gd name="adj2" fmla="val 83346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nt. Au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rot="17854200">
            <a:off x="4340880" y="4574520"/>
            <a:ext cx="1981440" cy="452160"/>
          </a:xfrm>
          <a:prstGeom prst="rightArrow">
            <a:avLst>
              <a:gd name="adj1" fmla="val 50000"/>
              <a:gd name="adj2" fmla="val 109554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nt. Au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257800" y="160020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7d"/>
                </a:solidFill>
                <a:latin typeface="Verdana"/>
              </a:rPr>
              <a:t>Bacteri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038480" y="762120"/>
            <a:ext cx="48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Verdana"/>
              </a:rPr>
              <a:t>Quality 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57200" y="533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Internal Aud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04920" y="1981080"/>
            <a:ext cx="403848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Do not audit your own wo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514600" y="4876920"/>
            <a:ext cx="2362320" cy="11430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Consultant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ano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087EF6-1D7E-471B-B745-141D81A6676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4" name=""/>
          <p:cNvGrpSpPr/>
          <p:nvPr/>
        </p:nvGrpSpPr>
        <p:grpSpPr>
          <a:xfrm>
            <a:off x="605160" y="571320"/>
            <a:ext cx="8084160" cy="4643280"/>
            <a:chOff x="605160" y="571320"/>
            <a:chExt cx="8084160" cy="4643280"/>
          </a:xfrm>
        </p:grpSpPr>
        <p:sp>
          <p:nvSpPr>
            <p:cNvPr id="285" name="_s730131"/>
            <p:cNvSpPr/>
            <p:nvPr/>
          </p:nvSpPr>
          <p:spPr>
            <a:xfrm flipH="1">
              <a:off x="2701080" y="3783960"/>
              <a:ext cx="969480" cy="3589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_s730130"/>
            <p:cNvSpPr/>
            <p:nvPr/>
          </p:nvSpPr>
          <p:spPr>
            <a:xfrm>
              <a:off x="605160" y="3786120"/>
              <a:ext cx="2247480" cy="142848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Prepare </a:t>
              </a:r>
              <a:br>
                <a:rPr sz="2500"/>
              </a:b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documents</a:t>
              </a:r>
              <a:br>
                <a:rPr sz="1500"/>
              </a:br>
              <a:r>
                <a:rPr b="1" lang="en-US" sz="1500" spc="-1" strike="noStrike">
                  <a:solidFill>
                    <a:srgbClr val="000000"/>
                  </a:solidFill>
                  <a:latin typeface="Verdana"/>
                </a:rPr>
                <a:t>checklist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Verdana"/>
                </a:rPr>
                <a:t>form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_s730129"/>
            <p:cNvSpPr/>
            <p:nvPr/>
          </p:nvSpPr>
          <p:spPr>
            <a:xfrm>
              <a:off x="5619960" y="3786120"/>
              <a:ext cx="973080" cy="3549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_s730128"/>
            <p:cNvSpPr/>
            <p:nvPr/>
          </p:nvSpPr>
          <p:spPr>
            <a:xfrm>
              <a:off x="6441840" y="3783960"/>
              <a:ext cx="2247480" cy="14284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Schedule </a:t>
              </a:r>
              <a:br>
                <a:rPr sz="2500"/>
              </a:b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regular </a:t>
              </a:r>
              <a:br>
                <a:rPr sz="2500"/>
              </a:b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audits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_s730127"/>
            <p:cNvSpPr/>
            <p:nvPr/>
          </p:nvSpPr>
          <p:spPr>
            <a:xfrm flipV="1">
              <a:off x="4647240" y="2000160"/>
              <a:ext cx="0" cy="714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_s730126"/>
            <p:cNvSpPr/>
            <p:nvPr/>
          </p:nvSpPr>
          <p:spPr>
            <a:xfrm>
              <a:off x="3523680" y="571320"/>
              <a:ext cx="2247480" cy="14284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7d"/>
                  </a:solidFill>
                  <a:latin typeface="Verdana"/>
                </a:rPr>
                <a:t>Internal </a:t>
              </a:r>
              <a:br>
                <a:rPr sz="2500"/>
              </a:br>
              <a:r>
                <a:rPr b="1" lang="en-US" sz="2500" spc="-1" strike="noStrike">
                  <a:solidFill>
                    <a:srgbClr val="00007d"/>
                  </a:solidFill>
                  <a:latin typeface="Verdana"/>
                </a:rPr>
                <a:t>Audit</a:t>
              </a:r>
              <a:br>
                <a:rPr sz="2500"/>
              </a:br>
              <a:r>
                <a:rPr b="1" lang="en-US" sz="2500" spc="-1" strike="noStrike">
                  <a:solidFill>
                    <a:srgbClr val="00007d"/>
                  </a:solidFill>
                  <a:latin typeface="Verdana"/>
                </a:rPr>
                <a:t> Program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_s730125"/>
            <p:cNvSpPr/>
            <p:nvPr/>
          </p:nvSpPr>
          <p:spPr>
            <a:xfrm>
              <a:off x="3523680" y="2714400"/>
              <a:ext cx="2247480" cy="14284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Assign </a:t>
              </a:r>
              <a:br>
                <a:rPr sz="2500"/>
              </a:br>
              <a:r>
                <a:rPr b="1" lang="en-US" sz="2100" spc="-1" strike="noStrike">
                  <a:solidFill>
                    <a:srgbClr val="000000"/>
                  </a:solidFill>
                  <a:latin typeface="Verdana"/>
                </a:rPr>
                <a:t>responsibility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2" name=""/>
          <p:cNvSpPr/>
          <p:nvPr/>
        </p:nvSpPr>
        <p:spPr>
          <a:xfrm>
            <a:off x="6324480" y="5562720"/>
            <a:ext cx="2819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5"/>
          <a:stretch/>
        </p:blipFill>
        <p:spPr>
          <a:xfrm>
            <a:off x="4572000" y="4724280"/>
            <a:ext cx="2590920" cy="176688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6"/>
          <a:stretch/>
        </p:blipFill>
        <p:spPr>
          <a:xfrm>
            <a:off x="2590920" y="4768920"/>
            <a:ext cx="2057400" cy="139212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/>
          <p:cNvPicPr/>
          <p:nvPr/>
        </p:nvPicPr>
        <p:blipFill>
          <a:blip r:embed="rId7"/>
          <a:stretch/>
        </p:blipFill>
        <p:spPr>
          <a:xfrm>
            <a:off x="304920" y="1752480"/>
            <a:ext cx="2209680" cy="221004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/>
          <p:cNvPicPr/>
          <p:nvPr/>
        </p:nvPicPr>
        <p:blipFill>
          <a:blip r:embed="rId8"/>
          <a:stretch/>
        </p:blipFill>
        <p:spPr>
          <a:xfrm>
            <a:off x="6075360" y="1905120"/>
            <a:ext cx="1211400" cy="1600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048E24-6BCD-41A7-ACBB-752DEF37620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838080" y="2057400"/>
            <a:ext cx="8229600" cy="220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77724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t the end of this activity, you will be able to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a process to prepare your laboratory staff for an external audi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lan and manage an internal audi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iscuss how to use results from a laboratory audi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vocate for the importance of taking corrective action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7E59F2-18DA-45B7-B01D-07D7F5B4B03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 rot="16200000">
            <a:off x="3549600" y="2851200"/>
            <a:ext cx="3463920" cy="657360"/>
          </a:xfrm>
          <a:prstGeom prst="rightArrow">
            <a:avLst>
              <a:gd name="adj1" fmla="val 50000"/>
              <a:gd name="adj2" fmla="val 131736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105520" y="4038480"/>
            <a:ext cx="2590560" cy="2210040"/>
          </a:xfrm>
          <a:prstGeom prst="pentagon">
            <a:avLst/>
          </a:prstGeom>
          <a:solidFill>
            <a:srgbClr val="ffffff"/>
          </a:soli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066680" y="609480"/>
            <a:ext cx="7010640" cy="8384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438280" y="762120"/>
            <a:ext cx="48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Laboratory Dir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914400" y="2209680"/>
            <a:ext cx="3352680" cy="14479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57200" y="4572000"/>
            <a:ext cx="3962520" cy="167652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248520" y="2590920"/>
            <a:ext cx="2438280" cy="15238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066680" y="2362320"/>
            <a:ext cx="3048120" cy="11912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determines the internal auditing poli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762120" y="4952880"/>
            <a:ext cx="373356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  </a:t>
            </a: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assigns responsibility</a:t>
            </a: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for the internal audit program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    –  </a:t>
            </a: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6600"/>
                </a:solidFill>
                <a:latin typeface="Verdana"/>
              </a:rPr>
              <a:t>Q</a:t>
            </a:r>
            <a:r>
              <a:rPr b="1" lang="en-US" sz="1800" spc="-1" strike="noStrike">
                <a:solidFill>
                  <a:srgbClr val="ff6600"/>
                </a:solidFill>
                <a:latin typeface="Verdana"/>
              </a:rPr>
              <a:t>uality 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62720" y="4648320"/>
            <a:ext cx="1904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ternal audit outc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2514600"/>
            <a:ext cx="20574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supports corrective action mea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rot="5400000">
            <a:off x="1943280" y="1333440"/>
            <a:ext cx="761760" cy="990720"/>
          </a:xfrm>
          <a:custGeom>
            <a:avLst/>
            <a:gdLst>
              <a:gd name="textAreaLeft" fmla="*/ 118800 w 761760"/>
              <a:gd name="textAreaRight" fmla="*/ 666720 w 761760"/>
              <a:gd name="textAreaTop" fmla="*/ 247680 h 990720"/>
              <a:gd name="textAreaBottom" fmla="*/ 743040 h 990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rot="5400000">
            <a:off x="1942560" y="3543120"/>
            <a:ext cx="914400" cy="1143000"/>
          </a:xfrm>
          <a:custGeom>
            <a:avLst/>
            <a:gdLst>
              <a:gd name="textAreaLeft" fmla="*/ 142920 w 914400"/>
              <a:gd name="textAreaRight" fmla="*/ 800280 w 914400"/>
              <a:gd name="textAreaTop" fmla="*/ 285840 h 1143000"/>
              <a:gd name="textAreaBottom" fmla="*/ 857520 h 1143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rot="5400000">
            <a:off x="6819840" y="1485720"/>
            <a:ext cx="990720" cy="1067040"/>
          </a:xfrm>
          <a:custGeom>
            <a:avLst/>
            <a:gdLst>
              <a:gd name="textAreaLeft" fmla="*/ 154800 w 990720"/>
              <a:gd name="textAreaRight" fmla="*/ 866880 w 990720"/>
              <a:gd name="textAreaTop" fmla="*/ 266760 h 1067040"/>
              <a:gd name="textAreaBottom" fmla="*/ 800280 h 10670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038480" y="5486400"/>
            <a:ext cx="1371600" cy="4572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838080" y="5486400"/>
            <a:ext cx="762120" cy="533520"/>
          </a:xfrm>
          <a:custGeom>
            <a:avLst/>
            <a:gdLst>
              <a:gd name="textAreaLeft" fmla="*/ 118800 w 762120"/>
              <a:gd name="textAreaRight" fmla="*/ 667080 w 76212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24C3B5-A168-46CF-A512-B7576C8EB08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6781680" y="2743200"/>
            <a:ext cx="1752840" cy="99072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80880" y="609480"/>
            <a:ext cx="8458200" cy="1137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Quality Manager Responsi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establish and maintain an internal audit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895480" y="2438280"/>
            <a:ext cx="3124440" cy="160020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200400" y="2514600"/>
            <a:ext cx="266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coordinate the</a:t>
            </a:r>
            <a:br>
              <a:rPr sz="2400"/>
            </a:b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 audit proces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6400800" y="2743200"/>
            <a:ext cx="2438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Verdana"/>
              </a:rPr>
              <a:t>manage corrective 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rot="5400000">
            <a:off x="4076640" y="1714320"/>
            <a:ext cx="609480" cy="838080"/>
          </a:xfrm>
          <a:custGeom>
            <a:avLst/>
            <a:gdLst>
              <a:gd name="textAreaLeft" fmla="*/ 95040 w 609480"/>
              <a:gd name="textAreaRight" fmla="*/ 533520 w 60948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33520" y="2286000"/>
            <a:ext cx="1752480" cy="91440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" y="2362320"/>
            <a:ext cx="1447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Verdana"/>
              </a:rPr>
              <a:t>develop  sched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200400" y="3886200"/>
            <a:ext cx="2438280" cy="1828800"/>
          </a:xfrm>
          <a:prstGeom prst="pentagon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tern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udi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outc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553080" y="5029200"/>
            <a:ext cx="2438640" cy="121932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533520" y="4952880"/>
            <a:ext cx="1752480" cy="121932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762120" y="5121360"/>
            <a:ext cx="1447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report to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 rot="11374200">
            <a:off x="2133000" y="2567880"/>
            <a:ext cx="1066680" cy="555480"/>
          </a:xfrm>
          <a:custGeom>
            <a:avLst/>
            <a:gdLst>
              <a:gd name="textAreaLeft" fmla="*/ 166680 w 1066680"/>
              <a:gd name="textAreaRight" fmla="*/ 933480 w 1066680"/>
              <a:gd name="textAreaTop" fmla="*/ 138960 h 555480"/>
              <a:gd name="textAreaBottom" fmla="*/ 416880 h 555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81480" y="5410080"/>
            <a:ext cx="1447920" cy="4572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rot="10800000">
            <a:off x="2209680" y="5333760"/>
            <a:ext cx="1371600" cy="533160"/>
          </a:xfrm>
          <a:custGeom>
            <a:avLst/>
            <a:gdLst>
              <a:gd name="textAreaLeft" fmla="*/ 214200 w 1371600"/>
              <a:gd name="textAreaRight" fmla="*/ 1200240 w 1371600"/>
              <a:gd name="textAreaTop" fmla="*/ 133200 h 533160"/>
              <a:gd name="textAreaBottom" fmla="*/ 399960 h 5331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533520" y="3276720"/>
            <a:ext cx="1752480" cy="99036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685800" y="3276720"/>
            <a:ext cx="1447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Verdana"/>
              </a:rPr>
              <a:t>select &amp; train audi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rot="9818400">
            <a:off x="2133000" y="3276360"/>
            <a:ext cx="1066680" cy="555480"/>
          </a:xfrm>
          <a:custGeom>
            <a:avLst/>
            <a:gdLst>
              <a:gd name="textAreaLeft" fmla="*/ 166680 w 1066680"/>
              <a:gd name="textAreaRight" fmla="*/ 933480 w 1066680"/>
              <a:gd name="textAreaTop" fmla="*/ 138960 h 555480"/>
              <a:gd name="textAreaBottom" fmla="*/ 416880 h 555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 rot="19251600">
            <a:off x="5333760" y="3809880"/>
            <a:ext cx="1828800" cy="45720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6553080" y="512136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report to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B642E5-D6CD-4F75-8352-2E21888648B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nducting an Internal Audi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pl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rite checklis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ening meet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llect and analyze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 resul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duct closing meet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901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port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2E2CE4-7EB9-4F0E-B85C-E7A68C21F87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stablishing an Audit Sched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7467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-21924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duct regular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19240" indent="-21924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re frequent audits for problems or areas needing improv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19240" indent="-21924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ver time audits should look at all of the quality system essentia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3124080" y="3581280"/>
            <a:ext cx="2670120" cy="2791080"/>
          </a:xfrm>
          <a:prstGeom prst="rect">
            <a:avLst/>
          </a:prstGeom>
          <a:ln w="0">
            <a:noFill/>
          </a:ln>
        </p:spPr>
      </p:pic>
      <p:grpSp>
        <p:nvGrpSpPr>
          <p:cNvPr id="338" name=""/>
          <p:cNvGrpSpPr/>
          <p:nvPr/>
        </p:nvGrpSpPr>
        <p:grpSpPr>
          <a:xfrm>
            <a:off x="2743200" y="3628800"/>
            <a:ext cx="3228840" cy="2660760"/>
            <a:chOff x="2743200" y="3628800"/>
            <a:chExt cx="3228840" cy="2660760"/>
          </a:xfrm>
        </p:grpSpPr>
        <p:sp>
          <p:nvSpPr>
            <p:cNvPr id="339" name="_s620643"/>
            <p:cNvSpPr/>
            <p:nvPr/>
          </p:nvSpPr>
          <p:spPr>
            <a:xfrm>
              <a:off x="3344040" y="3628800"/>
              <a:ext cx="2026440" cy="1840320"/>
            </a:xfrm>
            <a:custGeom>
              <a:avLst/>
              <a:gdLst>
                <a:gd name="textAreaLeft" fmla="*/ 0 w 2026440"/>
                <a:gd name="textAreaRight" fmla="*/ 2026800 w 2026440"/>
                <a:gd name="textAreaTop" fmla="*/ 0 h 1840320"/>
                <a:gd name="textAreaBottom" fmla="*/ 1840680 h 1840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_s620644"/>
            <p:cNvSpPr/>
            <p:nvPr/>
          </p:nvSpPr>
          <p:spPr>
            <a:xfrm rot="7200000">
              <a:off x="3714120" y="3970080"/>
              <a:ext cx="1840320" cy="2026440"/>
            </a:xfrm>
            <a:custGeom>
              <a:avLst/>
              <a:gdLst>
                <a:gd name="textAreaLeft" fmla="*/ 0 w 1840320"/>
                <a:gd name="textAreaRight" fmla="*/ 1840680 w 1840320"/>
                <a:gd name="textAreaTop" fmla="*/ 0 h 2026440"/>
                <a:gd name="textAreaBottom" fmla="*/ 2026800 h 202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_s620646"/>
            <p:cNvSpPr/>
            <p:nvPr/>
          </p:nvSpPr>
          <p:spPr>
            <a:xfrm rot="14400000">
              <a:off x="3160440" y="3972600"/>
              <a:ext cx="1840320" cy="2026440"/>
            </a:xfrm>
            <a:custGeom>
              <a:avLst/>
              <a:gdLst>
                <a:gd name="textAreaLeft" fmla="*/ 0 w 1840320"/>
                <a:gd name="textAreaRight" fmla="*/ 1840680 w 1840320"/>
                <a:gd name="textAreaTop" fmla="*/ 0 h 2026440"/>
                <a:gd name="textAreaBottom" fmla="*/ 2026800 h 202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_s620641"/>
            <p:cNvSpPr/>
            <p:nvPr/>
          </p:nvSpPr>
          <p:spPr>
            <a:xfrm>
              <a:off x="4912200" y="3965760"/>
              <a:ext cx="81324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_s620642"/>
            <p:cNvSpPr/>
            <p:nvPr/>
          </p:nvSpPr>
          <p:spPr>
            <a:xfrm>
              <a:off x="3950640" y="5478120"/>
              <a:ext cx="81324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_s620645"/>
            <p:cNvSpPr/>
            <p:nvPr/>
          </p:nvSpPr>
          <p:spPr>
            <a:xfrm>
              <a:off x="2989080" y="3965760"/>
              <a:ext cx="81324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297EA8-4F13-4D98-9CE6-BD672A8D3CB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588600"/>
            <a:ext cx="777240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ocu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533376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1000"/>
          </a:bodyPr>
          <a:p>
            <a:pPr marL="174960" indent="-174960">
              <a:lnSpc>
                <a:spcPct val="7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hecklist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74960" indent="-174960">
              <a:lnSpc>
                <a:spcPct val="7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forms for documenting corrective actions and repo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74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74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1"/>
          <a:stretch/>
        </p:blipFill>
        <p:spPr>
          <a:xfrm>
            <a:off x="6019920" y="1295280"/>
            <a:ext cx="2133360" cy="213372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2"/>
          <a:stretch/>
        </p:blipFill>
        <p:spPr>
          <a:xfrm>
            <a:off x="3352680" y="3581280"/>
            <a:ext cx="2971800" cy="2770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87FBF3-6DE0-42FB-81BF-259659EFBEC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9" name=""/>
          <p:cNvGrpSpPr/>
          <p:nvPr/>
        </p:nvGrpSpPr>
        <p:grpSpPr>
          <a:xfrm>
            <a:off x="960480" y="682200"/>
            <a:ext cx="7526880" cy="5239440"/>
            <a:chOff x="960480" y="682200"/>
            <a:chExt cx="7526880" cy="5239440"/>
          </a:xfrm>
        </p:grpSpPr>
        <p:sp>
          <p:nvSpPr>
            <p:cNvPr id="350" name="_s732185"/>
            <p:cNvSpPr/>
            <p:nvPr/>
          </p:nvSpPr>
          <p:spPr>
            <a:xfrm flipH="1" flipV="1">
              <a:off x="2869560" y="3069360"/>
              <a:ext cx="925920" cy="216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_s732184"/>
            <p:cNvSpPr/>
            <p:nvPr/>
          </p:nvSpPr>
          <p:spPr>
            <a:xfrm>
              <a:off x="960480" y="2143080"/>
              <a:ext cx="1954800" cy="141120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Communicate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effectivel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_s732183"/>
            <p:cNvSpPr/>
            <p:nvPr/>
          </p:nvSpPr>
          <p:spPr>
            <a:xfrm flipH="1">
              <a:off x="3578040" y="4074480"/>
              <a:ext cx="571320" cy="56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_s732182"/>
            <p:cNvSpPr/>
            <p:nvPr/>
          </p:nvSpPr>
          <p:spPr>
            <a:xfrm>
              <a:off x="2023920" y="4510440"/>
              <a:ext cx="1954080" cy="14112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Technical/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Quality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management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experti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_s732181"/>
            <p:cNvSpPr/>
            <p:nvPr/>
          </p:nvSpPr>
          <p:spPr>
            <a:xfrm>
              <a:off x="5298120" y="4074480"/>
              <a:ext cx="574560" cy="56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_s732180"/>
            <p:cNvSpPr/>
            <p:nvPr/>
          </p:nvSpPr>
          <p:spPr>
            <a:xfrm>
              <a:off x="5469840" y="4510440"/>
              <a:ext cx="1954080" cy="14112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Diplomati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_s732179"/>
            <p:cNvSpPr/>
            <p:nvPr/>
          </p:nvSpPr>
          <p:spPr>
            <a:xfrm flipV="1">
              <a:off x="5652360" y="3067560"/>
              <a:ext cx="928440" cy="2185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_s732178"/>
            <p:cNvSpPr/>
            <p:nvPr/>
          </p:nvSpPr>
          <p:spPr>
            <a:xfrm>
              <a:off x="6532560" y="2143080"/>
              <a:ext cx="1954800" cy="14112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Train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_s732177"/>
            <p:cNvSpPr/>
            <p:nvPr/>
          </p:nvSpPr>
          <p:spPr>
            <a:xfrm flipV="1">
              <a:off x="4723920" y="2093760"/>
              <a:ext cx="0" cy="7056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_s732176"/>
            <p:cNvSpPr/>
            <p:nvPr/>
          </p:nvSpPr>
          <p:spPr>
            <a:xfrm>
              <a:off x="3746880" y="682200"/>
              <a:ext cx="1954080" cy="14112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Attention 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to detai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_s732175"/>
            <p:cNvSpPr/>
            <p:nvPr/>
          </p:nvSpPr>
          <p:spPr>
            <a:xfrm>
              <a:off x="3746880" y="2799360"/>
              <a:ext cx="1954080" cy="14119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7d"/>
                  </a:solidFill>
                  <a:latin typeface="Verdana"/>
                </a:rPr>
                <a:t>Important </a:t>
              </a:r>
              <a:br>
                <a:rPr sz="2000"/>
              </a:br>
              <a:r>
                <a:rPr b="1" lang="en-US" sz="2000" spc="-1" strike="noStrike">
                  <a:solidFill>
                    <a:srgbClr val="00007d"/>
                  </a:solidFill>
                  <a:latin typeface="Verdana"/>
                </a:rPr>
                <a:t>Skills </a:t>
              </a:r>
              <a:br>
                <a:rPr sz="2000"/>
              </a:br>
              <a:r>
                <a:rPr b="1" lang="en-US" sz="2000" spc="-1" strike="noStrike">
                  <a:solidFill>
                    <a:srgbClr val="00007d"/>
                  </a:solidFill>
                  <a:latin typeface="Verdana"/>
                </a:rPr>
                <a:t>for Audito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61" name="" descr=""/>
          <p:cNvPicPr/>
          <p:nvPr/>
        </p:nvPicPr>
        <p:blipFill>
          <a:blip r:embed="rId6"/>
          <a:stretch/>
        </p:blipFill>
        <p:spPr>
          <a:xfrm>
            <a:off x="1752480" y="609480"/>
            <a:ext cx="2057400" cy="146556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7"/>
          <a:stretch/>
        </p:blipFill>
        <p:spPr>
          <a:xfrm>
            <a:off x="3962520" y="4495680"/>
            <a:ext cx="1585800" cy="1824120"/>
          </a:xfrm>
          <a:prstGeom prst="rect">
            <a:avLst/>
          </a:prstGeom>
          <a:ln w="0">
            <a:noFill/>
          </a:ln>
        </p:spPr>
      </p:pic>
      <p:pic>
        <p:nvPicPr>
          <p:cNvPr id="363" name="" descr=""/>
          <p:cNvPicPr/>
          <p:nvPr/>
        </p:nvPicPr>
        <p:blipFill>
          <a:blip r:embed="rId8"/>
          <a:stretch/>
        </p:blipFill>
        <p:spPr>
          <a:xfrm>
            <a:off x="7086600" y="3581280"/>
            <a:ext cx="1555920" cy="1752840"/>
          </a:xfrm>
          <a:prstGeom prst="rect">
            <a:avLst/>
          </a:prstGeom>
          <a:ln w="0">
            <a:noFill/>
          </a:ln>
        </p:spPr>
      </p:pic>
      <p:pic>
        <p:nvPicPr>
          <p:cNvPr id="364" name="" descr=""/>
          <p:cNvPicPr/>
          <p:nvPr/>
        </p:nvPicPr>
        <p:blipFill>
          <a:blip r:embed="rId9"/>
          <a:stretch/>
        </p:blipFill>
        <p:spPr>
          <a:xfrm>
            <a:off x="6019920" y="533520"/>
            <a:ext cx="2514600" cy="1584360"/>
          </a:xfrm>
          <a:prstGeom prst="rect">
            <a:avLst/>
          </a:prstGeom>
          <a:ln w="0">
            <a:noFill/>
          </a:ln>
        </p:spPr>
      </p:pic>
      <p:pic>
        <p:nvPicPr>
          <p:cNvPr id="365" name="" descr=""/>
          <p:cNvPicPr/>
          <p:nvPr/>
        </p:nvPicPr>
        <p:blipFill>
          <a:blip r:embed="rId10"/>
          <a:stretch/>
        </p:blipFill>
        <p:spPr>
          <a:xfrm>
            <a:off x="228600" y="3276720"/>
            <a:ext cx="1698480" cy="1752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3D3CD5-FAA1-4D79-B337-88B193F8055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/>
          <p:nvPr/>
        </p:nvSpPr>
        <p:spPr>
          <a:xfrm>
            <a:off x="685800" y="1676520"/>
            <a:ext cx="2362320" cy="11430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Aud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 rot="5400000">
            <a:off x="1294920" y="3047760"/>
            <a:ext cx="1295280" cy="129564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324000 h 1295640"/>
              <a:gd name="textAreaBottom" fmla="*/ 972000 h 129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udits Should Lead to Ac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533520" y="4495680"/>
            <a:ext cx="2514600" cy="152424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Identif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OF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943600" y="1371600"/>
            <a:ext cx="2895480" cy="3124080"/>
          </a:xfrm>
          <a:custGeom>
            <a:avLst/>
            <a:gdLst>
              <a:gd name="textAreaLeft" fmla="*/ 660960 w 2895480"/>
              <a:gd name="textAreaRight" fmla="*/ 2234520 w 2895480"/>
              <a:gd name="textAreaTop" fmla="*/ 713160 h 3124080"/>
              <a:gd name="textAreaBottom" fmla="*/ 2410920 h 3124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00007d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Take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 rot="20101800">
            <a:off x="3123720" y="3885840"/>
            <a:ext cx="3619800" cy="1295280"/>
          </a:xfrm>
          <a:custGeom>
            <a:avLst/>
            <a:gdLst>
              <a:gd name="textAreaLeft" fmla="*/ 565560 w 3619800"/>
              <a:gd name="textAreaRight" fmla="*/ 3167640 w 3619800"/>
              <a:gd name="textAreaTop" fmla="*/ 323640 h 1295280"/>
              <a:gd name="textAreaBottom" fmla="*/ 971640 h 1295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EBA540-FE62-4046-B5AC-CC812FBEFBA4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rrective and Remedial Ac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784836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ese actions are the steps taken to improve a process or to correct a problem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>
            <a:off x="380880" y="3809880"/>
            <a:ext cx="5029200" cy="119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o is responsible?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008000"/>
                </a:solidFill>
                <a:latin typeface="Verdana"/>
              </a:rPr>
              <a:t>Quality Manag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5181480" y="2895480"/>
            <a:ext cx="3124440" cy="2786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670BFF-73E0-4EEE-A5D7-79CE2DC0ED51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aking corrective ac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ing problem-solving team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vestigate root caus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appropriate corrective a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mplement corrective ac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xamine effectivenes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 all actions and finding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C5F9B2-6D22-4BB4-B077-D35D95929DB1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Opportunity for Improvement For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1"/>
          <a:stretch/>
        </p:blipFill>
        <p:spPr>
          <a:xfrm>
            <a:off x="2057400" y="1295280"/>
            <a:ext cx="5181480" cy="4829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7ECF25-CA7B-47F9-BB76-7379D37E347A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Problem 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You are the quality manager in your laboratory and you want to organize an internal audit. 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What steps will you take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D428DE-14AC-49DA-8EAE-859B5AF6304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/>
          <p:nvPr/>
        </p:nvSpPr>
        <p:spPr>
          <a:xfrm>
            <a:off x="1905120" y="685800"/>
            <a:ext cx="5715000" cy="5486400"/>
          </a:xfrm>
          <a:prstGeom prst="ellipse">
            <a:avLst/>
          </a:prstGeom>
          <a:gradFill rotWithShape="0">
            <a:gsLst>
              <a:gs pos="0">
                <a:srgbClr val="cc99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2514600" y="1981080"/>
            <a:ext cx="4572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1e21f"/>
                </a:solidFill>
                <a:latin typeface="Verdana"/>
              </a:rPr>
              <a:t>Continuous monitoring is the key element to success in the Quality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1"/>
          <a:stretch/>
        </p:blipFill>
        <p:spPr>
          <a:xfrm>
            <a:off x="380880" y="762120"/>
            <a:ext cx="2400480" cy="2400120"/>
          </a:xfrm>
          <a:prstGeom prst="rect">
            <a:avLst/>
          </a:prstGeom>
          <a:ln w="0">
            <a:noFill/>
          </a:ln>
        </p:spPr>
      </p:pic>
      <p:pic>
        <p:nvPicPr>
          <p:cNvPr id="383" name="" descr=""/>
          <p:cNvPicPr/>
          <p:nvPr/>
        </p:nvPicPr>
        <p:blipFill>
          <a:blip r:embed="rId2"/>
          <a:stretch/>
        </p:blipFill>
        <p:spPr>
          <a:xfrm>
            <a:off x="6172200" y="685800"/>
            <a:ext cx="2394000" cy="1893960"/>
          </a:xfrm>
          <a:prstGeom prst="rect">
            <a:avLst/>
          </a:prstGeom>
          <a:ln w="0">
            <a:noFill/>
          </a:ln>
        </p:spPr>
      </p:pic>
      <p:pic>
        <p:nvPicPr>
          <p:cNvPr id="384" name="" descr=""/>
          <p:cNvPicPr/>
          <p:nvPr/>
        </p:nvPicPr>
        <p:blipFill>
          <a:blip r:embed="rId3"/>
          <a:stretch/>
        </p:blipFill>
        <p:spPr>
          <a:xfrm>
            <a:off x="5867280" y="4800600"/>
            <a:ext cx="2210040" cy="1676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34AEC0-CC7F-4320-AB62-444432B0467B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5" name=""/>
          <p:cNvGrpSpPr/>
          <p:nvPr/>
        </p:nvGrpSpPr>
        <p:grpSpPr>
          <a:xfrm>
            <a:off x="684000" y="776520"/>
            <a:ext cx="7933680" cy="5909040"/>
            <a:chOff x="684000" y="776520"/>
            <a:chExt cx="7933680" cy="5909040"/>
          </a:xfrm>
        </p:grpSpPr>
        <p:sp>
          <p:nvSpPr>
            <p:cNvPr id="386" name="_s595033"/>
            <p:cNvSpPr/>
            <p:nvPr/>
          </p:nvSpPr>
          <p:spPr>
            <a:xfrm>
              <a:off x="1990800" y="968760"/>
              <a:ext cx="5317200" cy="3748680"/>
            </a:xfrm>
            <a:custGeom>
              <a:avLst/>
              <a:gdLst>
                <a:gd name="textAreaLeft" fmla="*/ 0 w 5317200"/>
                <a:gd name="textAreaRight" fmla="*/ 5317560 w 5317200"/>
                <a:gd name="textAreaTop" fmla="*/ 0 h 3748680"/>
                <a:gd name="textAreaBottom" fmla="*/ 3749040 h 3748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_s595034"/>
            <p:cNvSpPr/>
            <p:nvPr/>
          </p:nvSpPr>
          <p:spPr>
            <a:xfrm rot="7200000">
              <a:off x="3503160" y="1069920"/>
              <a:ext cx="3748680" cy="5317920"/>
            </a:xfrm>
            <a:custGeom>
              <a:avLst/>
              <a:gdLst>
                <a:gd name="textAreaLeft" fmla="*/ 0 w 3748680"/>
                <a:gd name="textAreaRight" fmla="*/ 3749040 w 3748680"/>
                <a:gd name="textAreaTop" fmla="*/ 0 h 5317920"/>
                <a:gd name="textAreaBottom" fmla="*/ 5318280 h 5317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_s595035"/>
            <p:cNvSpPr/>
            <p:nvPr/>
          </p:nvSpPr>
          <p:spPr>
            <a:xfrm rot="14400000">
              <a:off x="2048760" y="1074240"/>
              <a:ext cx="3748680" cy="5317200"/>
            </a:xfrm>
            <a:custGeom>
              <a:avLst/>
              <a:gdLst>
                <a:gd name="textAreaLeft" fmla="*/ 0 w 3748680"/>
                <a:gd name="textAreaRight" fmla="*/ 3749040 w 3748680"/>
                <a:gd name="textAreaTop" fmla="*/ 0 h 5317200"/>
                <a:gd name="textAreaBottom" fmla="*/ 5317560 h 531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_s594995"/>
            <p:cNvSpPr/>
            <p:nvPr/>
          </p:nvSpPr>
          <p:spPr>
            <a:xfrm>
              <a:off x="1058760" y="1655280"/>
              <a:ext cx="2134080" cy="15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Monitoring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Evalu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1e21f"/>
                  </a:solidFill>
                  <a:latin typeface="Verdana"/>
                </a:rPr>
                <a:t>customer satisfac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1e21f"/>
                  </a:solidFill>
                  <a:latin typeface="Verdana"/>
                </a:rPr>
                <a:t>quality contro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1e21f"/>
                  </a:solidFill>
                  <a:latin typeface="Verdana"/>
                </a:rPr>
                <a:t>proficiency test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1e21f"/>
                  </a:solidFill>
                  <a:latin typeface="Verdana"/>
                </a:rPr>
                <a:t>audi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_s594992"/>
            <p:cNvSpPr/>
            <p:nvPr/>
          </p:nvSpPr>
          <p:spPr>
            <a:xfrm>
              <a:off x="3582000" y="4735800"/>
              <a:ext cx="2134080" cy="15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Corrective </a:t>
              </a:r>
              <a:br>
                <a:rPr sz="1800"/>
              </a:b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Action Pl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_s595007"/>
            <p:cNvSpPr/>
            <p:nvPr/>
          </p:nvSpPr>
          <p:spPr>
            <a:xfrm>
              <a:off x="6105240" y="1655280"/>
              <a:ext cx="2134080" cy="15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Quality </a:t>
              </a:r>
              <a:br>
                <a:rPr sz="1800"/>
              </a:b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Improvement </a:t>
              </a:r>
              <a:br>
                <a:rPr sz="1800"/>
              </a:b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Pl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2" name=""/>
          <p:cNvSpPr/>
          <p:nvPr/>
        </p:nvSpPr>
        <p:spPr>
          <a:xfrm>
            <a:off x="3429000" y="2895480"/>
            <a:ext cx="2819520" cy="1191240"/>
          </a:xfrm>
          <a:prstGeom prst="rect">
            <a:avLst/>
          </a:prstGeom>
          <a:solidFill>
            <a:srgbClr val="ffffcc"/>
          </a:soli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Continuous Quality Impro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AEE7F5-22BF-4555-874B-6549956E277B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685800" y="1371600"/>
            <a:ext cx="7696080" cy="4116240"/>
          </a:xfrm>
          <a:prstGeom prst="rect">
            <a:avLst/>
          </a:prstGeom>
          <a:gradFill rotWithShape="0">
            <a:gsLst>
              <a:gs pos="0">
                <a:srgbClr val="cc99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Arial"/>
              </a:rPr>
              <a:t>“</a:t>
            </a: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Arial"/>
              </a:rPr>
              <a:t>It isn’t what you find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Arial"/>
              </a:rPr>
              <a:t>it’s what you do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Arial"/>
              </a:rPr>
              <a:t>about what you find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  <a:ea typeface="Arial"/>
              </a:rPr>
              <a:t>Philip Cros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014947-3232-4422-B873-74794D7A3A15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essment is important in monitoring the effectiveness of the laboratory quality management system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oth external and internal audits yield useful information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 outcome of assessment is finding root causes of problems and taking corrective action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E714D6-246E-43B9-8A0B-65FEBCB32093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 laboratories should establish an internal audit program. Conducted on a regular basis, it will provide information for continual improvemen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blems become opportunities for improvemen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A5FE36-8753-4A10-A572-976412835B53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019920" y="1599840"/>
            <a:ext cx="2666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99" name=""/>
          <p:cNvGrpSpPr/>
          <p:nvPr/>
        </p:nvGrpSpPr>
        <p:grpSpPr>
          <a:xfrm>
            <a:off x="533520" y="838080"/>
            <a:ext cx="5181480" cy="5410080"/>
            <a:chOff x="533520" y="838080"/>
            <a:chExt cx="5181480" cy="5410080"/>
          </a:xfrm>
        </p:grpSpPr>
        <p:sp>
          <p:nvSpPr>
            <p:cNvPr id="400" name="AutoShape 4"/>
            <p:cNvSpPr/>
            <p:nvPr/>
          </p:nvSpPr>
          <p:spPr>
            <a:xfrm>
              <a:off x="533520" y="8380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9"/>
            <p:cNvSpPr/>
            <p:nvPr/>
          </p:nvSpPr>
          <p:spPr>
            <a:xfrm>
              <a:off x="2778120" y="36856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10"/>
            <p:cNvSpPr/>
            <p:nvPr/>
          </p:nvSpPr>
          <p:spPr>
            <a:xfrm>
              <a:off x="2746440" y="36774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11"/>
            <p:cNvSpPr/>
            <p:nvPr/>
          </p:nvSpPr>
          <p:spPr>
            <a:xfrm>
              <a:off x="2746440" y="36774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12"/>
            <p:cNvSpPr/>
            <p:nvPr/>
          </p:nvSpPr>
          <p:spPr>
            <a:xfrm>
              <a:off x="3008160" y="23828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13"/>
            <p:cNvSpPr/>
            <p:nvPr/>
          </p:nvSpPr>
          <p:spPr>
            <a:xfrm>
              <a:off x="3008160" y="23828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16"/>
            <p:cNvSpPr/>
            <p:nvPr/>
          </p:nvSpPr>
          <p:spPr>
            <a:xfrm>
              <a:off x="1413000" y="30441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22"/>
            <p:cNvSpPr/>
            <p:nvPr/>
          </p:nvSpPr>
          <p:spPr>
            <a:xfrm>
              <a:off x="1401840" y="29808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Line 24"/>
            <p:cNvSpPr/>
            <p:nvPr/>
          </p:nvSpPr>
          <p:spPr>
            <a:xfrm flipH="1" flipV="1">
              <a:off x="3187440" y="58449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Line 25"/>
            <p:cNvSpPr/>
            <p:nvPr/>
          </p:nvSpPr>
          <p:spPr>
            <a:xfrm flipV="1">
              <a:off x="2925720" y="46735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27"/>
            <p:cNvSpPr/>
            <p:nvPr/>
          </p:nvSpPr>
          <p:spPr>
            <a:xfrm>
              <a:off x="4724280" y="15040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Line 27"/>
            <p:cNvSpPr/>
            <p:nvPr/>
          </p:nvSpPr>
          <p:spPr>
            <a:xfrm>
              <a:off x="3124080" y="16635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Line 27"/>
            <p:cNvSpPr/>
            <p:nvPr/>
          </p:nvSpPr>
          <p:spPr>
            <a:xfrm>
              <a:off x="1447920" y="17128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Line 27"/>
            <p:cNvSpPr/>
            <p:nvPr/>
          </p:nvSpPr>
          <p:spPr>
            <a:xfrm flipH="1">
              <a:off x="1142640" y="15519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4" name="Group 65"/>
            <p:cNvGrpSpPr/>
            <p:nvPr/>
          </p:nvGrpSpPr>
          <p:grpSpPr>
            <a:xfrm>
              <a:off x="838080" y="930600"/>
              <a:ext cx="1261800" cy="1189800"/>
              <a:chOff x="838080" y="930600"/>
              <a:chExt cx="1261800" cy="1189800"/>
            </a:xfrm>
          </p:grpSpPr>
          <p:grpSp>
            <p:nvGrpSpPr>
              <p:cNvPr id="415" name="Group 66"/>
              <p:cNvGrpSpPr/>
              <p:nvPr/>
            </p:nvGrpSpPr>
            <p:grpSpPr>
              <a:xfrm>
                <a:off x="838080" y="930600"/>
                <a:ext cx="1239120" cy="1189800"/>
                <a:chOff x="838080" y="930600"/>
                <a:chExt cx="1239120" cy="1189800"/>
              </a:xfrm>
            </p:grpSpPr>
            <p:grpSp>
              <p:nvGrpSpPr>
                <p:cNvPr id="416" name="Group 67"/>
                <p:cNvGrpSpPr/>
                <p:nvPr/>
              </p:nvGrpSpPr>
              <p:grpSpPr>
                <a:xfrm>
                  <a:off x="889560" y="930600"/>
                  <a:ext cx="1152360" cy="1189800"/>
                  <a:chOff x="889560" y="930600"/>
                  <a:chExt cx="1152360" cy="1189800"/>
                </a:xfrm>
              </p:grpSpPr>
              <p:sp>
                <p:nvSpPr>
                  <p:cNvPr id="417" name="Freeform 68"/>
                  <p:cNvSpPr/>
                  <p:nvPr/>
                </p:nvSpPr>
                <p:spPr>
                  <a:xfrm>
                    <a:off x="889560" y="9306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8" name="Freeform 69"/>
                  <p:cNvSpPr/>
                  <p:nvPr/>
                </p:nvSpPr>
                <p:spPr>
                  <a:xfrm>
                    <a:off x="889560" y="9306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19" name="Text Box 70"/>
                <p:cNvSpPr/>
                <p:nvPr/>
              </p:nvSpPr>
              <p:spPr>
                <a:xfrm>
                  <a:off x="838080" y="12049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0" name="Text Box 71"/>
              <p:cNvSpPr/>
              <p:nvPr/>
            </p:nvSpPr>
            <p:spPr>
              <a:xfrm>
                <a:off x="860760" y="13525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1" name="Group 72"/>
            <p:cNvGrpSpPr/>
            <p:nvPr/>
          </p:nvGrpSpPr>
          <p:grpSpPr>
            <a:xfrm>
              <a:off x="2494080" y="930600"/>
              <a:ext cx="1239840" cy="1189800"/>
              <a:chOff x="2494080" y="930600"/>
              <a:chExt cx="1239840" cy="1189800"/>
            </a:xfrm>
          </p:grpSpPr>
          <p:sp>
            <p:nvSpPr>
              <p:cNvPr id="422" name="Freeform 73"/>
              <p:cNvSpPr/>
              <p:nvPr/>
            </p:nvSpPr>
            <p:spPr>
              <a:xfrm>
                <a:off x="2534760" y="9306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Text Box 74"/>
              <p:cNvSpPr/>
              <p:nvPr/>
            </p:nvSpPr>
            <p:spPr>
              <a:xfrm>
                <a:off x="2494080" y="13525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4" name="Group 75"/>
            <p:cNvGrpSpPr/>
            <p:nvPr/>
          </p:nvGrpSpPr>
          <p:grpSpPr>
            <a:xfrm>
              <a:off x="4094280" y="930600"/>
              <a:ext cx="1239840" cy="1189800"/>
              <a:chOff x="4094280" y="930600"/>
              <a:chExt cx="1239840" cy="1189800"/>
            </a:xfrm>
          </p:grpSpPr>
          <p:grpSp>
            <p:nvGrpSpPr>
              <p:cNvPr id="425" name="Group 76"/>
              <p:cNvGrpSpPr/>
              <p:nvPr/>
            </p:nvGrpSpPr>
            <p:grpSpPr>
              <a:xfrm>
                <a:off x="4139640" y="930600"/>
                <a:ext cx="1153080" cy="1189800"/>
                <a:chOff x="4139640" y="930600"/>
                <a:chExt cx="1153080" cy="1189800"/>
              </a:xfrm>
            </p:grpSpPr>
            <p:sp>
              <p:nvSpPr>
                <p:cNvPr id="426" name="Freeform 77"/>
                <p:cNvSpPr/>
                <p:nvPr/>
              </p:nvSpPr>
              <p:spPr>
                <a:xfrm>
                  <a:off x="4139640" y="9306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7" name="Freeform 78"/>
                <p:cNvSpPr/>
                <p:nvPr/>
              </p:nvSpPr>
              <p:spPr>
                <a:xfrm>
                  <a:off x="4139640" y="9306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8" name="Text Box 79"/>
              <p:cNvSpPr/>
              <p:nvPr/>
            </p:nvSpPr>
            <p:spPr>
              <a:xfrm>
                <a:off x="4094280" y="13568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9" name="Line 27"/>
            <p:cNvSpPr/>
            <p:nvPr/>
          </p:nvSpPr>
          <p:spPr>
            <a:xfrm flipH="1">
              <a:off x="1218960" y="29048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0" name=""/>
            <p:cNvGrpSpPr/>
            <p:nvPr/>
          </p:nvGrpSpPr>
          <p:grpSpPr>
            <a:xfrm>
              <a:off x="838080" y="2270160"/>
              <a:ext cx="1241280" cy="1189440"/>
              <a:chOff x="838080" y="2270160"/>
              <a:chExt cx="1241280" cy="1189440"/>
            </a:xfrm>
          </p:grpSpPr>
          <p:sp>
            <p:nvSpPr>
              <p:cNvPr id="431" name="Freeform 46"/>
              <p:cNvSpPr/>
              <p:nvPr/>
            </p:nvSpPr>
            <p:spPr>
              <a:xfrm>
                <a:off x="842760" y="22701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Text Box 47"/>
              <p:cNvSpPr/>
              <p:nvPr/>
            </p:nvSpPr>
            <p:spPr>
              <a:xfrm>
                <a:off x="838080" y="25567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3" name="Freeform 31"/>
            <p:cNvSpPr/>
            <p:nvPr/>
          </p:nvSpPr>
          <p:spPr>
            <a:xfrm>
              <a:off x="2543040" y="23328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Text Box 43"/>
            <p:cNvSpPr/>
            <p:nvPr/>
          </p:nvSpPr>
          <p:spPr>
            <a:xfrm>
              <a:off x="2583000" y="23493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5" name=""/>
            <p:cNvGrpSpPr/>
            <p:nvPr/>
          </p:nvGrpSpPr>
          <p:grpSpPr>
            <a:xfrm>
              <a:off x="4038480" y="2288160"/>
              <a:ext cx="1336680" cy="1189440"/>
              <a:chOff x="4038480" y="2288160"/>
              <a:chExt cx="1336680" cy="1189440"/>
            </a:xfrm>
          </p:grpSpPr>
          <p:sp>
            <p:nvSpPr>
              <p:cNvPr id="436" name="Freeform 48"/>
              <p:cNvSpPr/>
              <p:nvPr/>
            </p:nvSpPr>
            <p:spPr>
              <a:xfrm>
                <a:off x="4114800" y="22881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Text Box 55"/>
              <p:cNvSpPr/>
              <p:nvPr/>
            </p:nvSpPr>
            <p:spPr>
              <a:xfrm>
                <a:off x="4038480" y="25880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8" name="Line 27"/>
            <p:cNvSpPr/>
            <p:nvPr/>
          </p:nvSpPr>
          <p:spPr>
            <a:xfrm flipH="1">
              <a:off x="1142640" y="41796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9" name=""/>
            <p:cNvGrpSpPr/>
            <p:nvPr/>
          </p:nvGrpSpPr>
          <p:grpSpPr>
            <a:xfrm>
              <a:off x="838080" y="3629520"/>
              <a:ext cx="1239840" cy="1191240"/>
              <a:chOff x="838080" y="3629520"/>
              <a:chExt cx="1239840" cy="1191240"/>
            </a:xfrm>
          </p:grpSpPr>
          <p:sp>
            <p:nvSpPr>
              <p:cNvPr id="440" name="Freeform 81"/>
              <p:cNvSpPr/>
              <p:nvPr/>
            </p:nvSpPr>
            <p:spPr>
              <a:xfrm>
                <a:off x="870120" y="36295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Text Box 82"/>
              <p:cNvSpPr/>
              <p:nvPr/>
            </p:nvSpPr>
            <p:spPr>
              <a:xfrm>
                <a:off x="838080" y="38613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2" name=""/>
            <p:cNvGrpSpPr/>
            <p:nvPr/>
          </p:nvGrpSpPr>
          <p:grpSpPr>
            <a:xfrm>
              <a:off x="2494080" y="3629520"/>
              <a:ext cx="1239840" cy="1191240"/>
              <a:chOff x="2494080" y="3629520"/>
              <a:chExt cx="1239840" cy="1191240"/>
            </a:xfrm>
          </p:grpSpPr>
          <p:sp>
            <p:nvSpPr>
              <p:cNvPr id="443" name="Freeform 30"/>
              <p:cNvSpPr/>
              <p:nvPr/>
            </p:nvSpPr>
            <p:spPr>
              <a:xfrm>
                <a:off x="2521080" y="36295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Text Box 54"/>
              <p:cNvSpPr/>
              <p:nvPr/>
            </p:nvSpPr>
            <p:spPr>
              <a:xfrm>
                <a:off x="2494080" y="38797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5" name="Freeform 50"/>
            <p:cNvSpPr/>
            <p:nvPr/>
          </p:nvSpPr>
          <p:spPr>
            <a:xfrm>
              <a:off x="4114800" y="36226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Text Box 51"/>
            <p:cNvSpPr/>
            <p:nvPr/>
          </p:nvSpPr>
          <p:spPr>
            <a:xfrm>
              <a:off x="4094280" y="37022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Line 27"/>
            <p:cNvSpPr/>
            <p:nvPr/>
          </p:nvSpPr>
          <p:spPr>
            <a:xfrm flipH="1">
              <a:off x="1218960" y="55306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8" name=""/>
            <p:cNvGrpSpPr/>
            <p:nvPr/>
          </p:nvGrpSpPr>
          <p:grpSpPr>
            <a:xfrm>
              <a:off x="762120" y="4978440"/>
              <a:ext cx="1420560" cy="1189440"/>
              <a:chOff x="762120" y="4978440"/>
              <a:chExt cx="1420560" cy="1189440"/>
            </a:xfrm>
          </p:grpSpPr>
          <p:sp>
            <p:nvSpPr>
              <p:cNvPr id="449" name="Freeform 57"/>
              <p:cNvSpPr/>
              <p:nvPr/>
            </p:nvSpPr>
            <p:spPr>
              <a:xfrm>
                <a:off x="911160" y="49784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Text Box 58"/>
              <p:cNvSpPr/>
              <p:nvPr/>
            </p:nvSpPr>
            <p:spPr>
              <a:xfrm>
                <a:off x="762120" y="52135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1" name=""/>
            <p:cNvGrpSpPr/>
            <p:nvPr/>
          </p:nvGrpSpPr>
          <p:grpSpPr>
            <a:xfrm>
              <a:off x="2494080" y="4910400"/>
              <a:ext cx="1239840" cy="1189800"/>
              <a:chOff x="2494080" y="4910400"/>
              <a:chExt cx="1239840" cy="1189800"/>
            </a:xfrm>
          </p:grpSpPr>
          <p:sp>
            <p:nvSpPr>
              <p:cNvPr id="452" name="Freeform 34"/>
              <p:cNvSpPr/>
              <p:nvPr/>
            </p:nvSpPr>
            <p:spPr>
              <a:xfrm>
                <a:off x="2543040" y="49104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Text Box 61"/>
              <p:cNvSpPr/>
              <p:nvPr/>
            </p:nvSpPr>
            <p:spPr>
              <a:xfrm>
                <a:off x="2494080" y="52135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4" name=""/>
            <p:cNvGrpSpPr/>
            <p:nvPr/>
          </p:nvGrpSpPr>
          <p:grpSpPr>
            <a:xfrm>
              <a:off x="4114800" y="4978440"/>
              <a:ext cx="1239840" cy="1189440"/>
              <a:chOff x="4114800" y="4978440"/>
              <a:chExt cx="1239840" cy="1189440"/>
            </a:xfrm>
          </p:grpSpPr>
          <p:sp>
            <p:nvSpPr>
              <p:cNvPr id="455" name="Freeform 63"/>
              <p:cNvSpPr/>
              <p:nvPr/>
            </p:nvSpPr>
            <p:spPr>
              <a:xfrm>
                <a:off x="4133880" y="49784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Text Box 64"/>
              <p:cNvSpPr/>
              <p:nvPr/>
            </p:nvSpPr>
            <p:spPr>
              <a:xfrm>
                <a:off x="4114800" y="52135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60D38B-54A3-4EBC-8519-53A9F6C55CDF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71629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2133720" y="990720"/>
            <a:ext cx="5181480" cy="5409720"/>
            <a:chOff x="2133720" y="990720"/>
            <a:chExt cx="5181480" cy="5409720"/>
          </a:xfrm>
        </p:grpSpPr>
        <p:sp>
          <p:nvSpPr>
            <p:cNvPr id="122" name="AutoShape 4"/>
            <p:cNvSpPr/>
            <p:nvPr/>
          </p:nvSpPr>
          <p:spPr>
            <a:xfrm>
              <a:off x="2133720" y="9907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9"/>
            <p:cNvSpPr/>
            <p:nvPr/>
          </p:nvSpPr>
          <p:spPr>
            <a:xfrm>
              <a:off x="4378320" y="38383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10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11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12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13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16"/>
            <p:cNvSpPr/>
            <p:nvPr/>
          </p:nvSpPr>
          <p:spPr>
            <a:xfrm>
              <a:off x="3013200" y="31964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22"/>
            <p:cNvSpPr/>
            <p:nvPr/>
          </p:nvSpPr>
          <p:spPr>
            <a:xfrm>
              <a:off x="3002040" y="31334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Line 24"/>
            <p:cNvSpPr/>
            <p:nvPr/>
          </p:nvSpPr>
          <p:spPr>
            <a:xfrm flipH="1" flipV="1">
              <a:off x="4787640" y="59972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Line 25"/>
            <p:cNvSpPr/>
            <p:nvPr/>
          </p:nvSpPr>
          <p:spPr>
            <a:xfrm flipV="1">
              <a:off x="4525920" y="48261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27"/>
            <p:cNvSpPr/>
            <p:nvPr/>
          </p:nvSpPr>
          <p:spPr>
            <a:xfrm>
              <a:off x="6324480" y="16567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27"/>
            <p:cNvSpPr/>
            <p:nvPr/>
          </p:nvSpPr>
          <p:spPr>
            <a:xfrm>
              <a:off x="4724280" y="18158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27"/>
            <p:cNvSpPr/>
            <p:nvPr/>
          </p:nvSpPr>
          <p:spPr>
            <a:xfrm>
              <a:off x="3048120" y="18655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27"/>
            <p:cNvSpPr/>
            <p:nvPr/>
          </p:nvSpPr>
          <p:spPr>
            <a:xfrm flipH="1">
              <a:off x="2742840" y="17046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6" name="Group 65"/>
            <p:cNvGrpSpPr/>
            <p:nvPr/>
          </p:nvGrpSpPr>
          <p:grpSpPr>
            <a:xfrm>
              <a:off x="2438280" y="1083240"/>
              <a:ext cx="1261800" cy="1189800"/>
              <a:chOff x="2438280" y="1083240"/>
              <a:chExt cx="1261800" cy="1189800"/>
            </a:xfrm>
          </p:grpSpPr>
          <p:grpSp>
            <p:nvGrpSpPr>
              <p:cNvPr id="137" name="Group 66"/>
              <p:cNvGrpSpPr/>
              <p:nvPr/>
            </p:nvGrpSpPr>
            <p:grpSpPr>
              <a:xfrm>
                <a:off x="2438280" y="1083240"/>
                <a:ext cx="1239120" cy="1189800"/>
                <a:chOff x="2438280" y="1083240"/>
                <a:chExt cx="1239120" cy="1189800"/>
              </a:xfrm>
            </p:grpSpPr>
            <p:grpSp>
              <p:nvGrpSpPr>
                <p:cNvPr id="138" name="Group 67"/>
                <p:cNvGrpSpPr/>
                <p:nvPr/>
              </p:nvGrpSpPr>
              <p:grpSpPr>
                <a:xfrm>
                  <a:off x="2489760" y="1083240"/>
                  <a:ext cx="1152360" cy="1189800"/>
                  <a:chOff x="2489760" y="1083240"/>
                  <a:chExt cx="1152360" cy="1189800"/>
                </a:xfrm>
              </p:grpSpPr>
              <p:sp>
                <p:nvSpPr>
                  <p:cNvPr id="139" name="Freeform 68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Freeform 69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1" name="Text Box 70"/>
                <p:cNvSpPr/>
                <p:nvPr/>
              </p:nvSpPr>
              <p:spPr>
                <a:xfrm>
                  <a:off x="2438280" y="13575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2" name="Text Box 71"/>
              <p:cNvSpPr/>
              <p:nvPr/>
            </p:nvSpPr>
            <p:spPr>
              <a:xfrm>
                <a:off x="2460960" y="15051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" name="Group 72"/>
            <p:cNvGrpSpPr/>
            <p:nvPr/>
          </p:nvGrpSpPr>
          <p:grpSpPr>
            <a:xfrm>
              <a:off x="4094280" y="1083240"/>
              <a:ext cx="1239840" cy="1189800"/>
              <a:chOff x="4094280" y="1083240"/>
              <a:chExt cx="1239840" cy="1189800"/>
            </a:xfrm>
          </p:grpSpPr>
          <p:sp>
            <p:nvSpPr>
              <p:cNvPr id="144" name="Freeform 73"/>
              <p:cNvSpPr/>
              <p:nvPr/>
            </p:nvSpPr>
            <p:spPr>
              <a:xfrm>
                <a:off x="4134960" y="10832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Text Box 74"/>
              <p:cNvSpPr/>
              <p:nvPr/>
            </p:nvSpPr>
            <p:spPr>
              <a:xfrm>
                <a:off x="4094280" y="150516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" name="Group 75"/>
            <p:cNvGrpSpPr/>
            <p:nvPr/>
          </p:nvGrpSpPr>
          <p:grpSpPr>
            <a:xfrm>
              <a:off x="5694480" y="1083240"/>
              <a:ext cx="1239840" cy="1189800"/>
              <a:chOff x="5694480" y="1083240"/>
              <a:chExt cx="1239840" cy="1189800"/>
            </a:xfrm>
          </p:grpSpPr>
          <p:grpSp>
            <p:nvGrpSpPr>
              <p:cNvPr id="147" name="Group 76"/>
              <p:cNvGrpSpPr/>
              <p:nvPr/>
            </p:nvGrpSpPr>
            <p:grpSpPr>
              <a:xfrm>
                <a:off x="5739840" y="1083240"/>
                <a:ext cx="1153080" cy="1189800"/>
                <a:chOff x="5739840" y="1083240"/>
                <a:chExt cx="1153080" cy="1189800"/>
              </a:xfrm>
            </p:grpSpPr>
            <p:sp>
              <p:nvSpPr>
                <p:cNvPr id="148" name="Freeform 77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Freeform 78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0" name="Text Box 79"/>
              <p:cNvSpPr/>
              <p:nvPr/>
            </p:nvSpPr>
            <p:spPr>
              <a:xfrm>
                <a:off x="5694480" y="15094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1" name="Line 27"/>
            <p:cNvSpPr/>
            <p:nvPr/>
          </p:nvSpPr>
          <p:spPr>
            <a:xfrm flipH="1">
              <a:off x="2819160" y="30574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2" name=""/>
            <p:cNvGrpSpPr/>
            <p:nvPr/>
          </p:nvGrpSpPr>
          <p:grpSpPr>
            <a:xfrm>
              <a:off x="2438280" y="2422800"/>
              <a:ext cx="1241280" cy="1189440"/>
              <a:chOff x="2438280" y="2422800"/>
              <a:chExt cx="1241280" cy="1189440"/>
            </a:xfrm>
          </p:grpSpPr>
          <p:sp>
            <p:nvSpPr>
              <p:cNvPr id="153" name="Freeform 46"/>
              <p:cNvSpPr/>
              <p:nvPr/>
            </p:nvSpPr>
            <p:spPr>
              <a:xfrm>
                <a:off x="2442960" y="24228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 Box 47"/>
              <p:cNvSpPr/>
              <p:nvPr/>
            </p:nvSpPr>
            <p:spPr>
              <a:xfrm>
                <a:off x="2438280" y="27093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5" name="Freeform 31"/>
            <p:cNvSpPr/>
            <p:nvPr/>
          </p:nvSpPr>
          <p:spPr>
            <a:xfrm>
              <a:off x="4143240" y="24854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Text Box 43"/>
            <p:cNvSpPr/>
            <p:nvPr/>
          </p:nvSpPr>
          <p:spPr>
            <a:xfrm>
              <a:off x="4183200" y="25020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5638680" y="2440800"/>
              <a:ext cx="1336680" cy="1189440"/>
              <a:chOff x="5638680" y="2440800"/>
              <a:chExt cx="1336680" cy="1189440"/>
            </a:xfrm>
          </p:grpSpPr>
          <p:sp>
            <p:nvSpPr>
              <p:cNvPr id="158" name="Freeform 48"/>
              <p:cNvSpPr/>
              <p:nvPr/>
            </p:nvSpPr>
            <p:spPr>
              <a:xfrm>
                <a:off x="5715000" y="24408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Text Box 55"/>
              <p:cNvSpPr/>
              <p:nvPr/>
            </p:nvSpPr>
            <p:spPr>
              <a:xfrm>
                <a:off x="5638680" y="27406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0" name="Line 27"/>
            <p:cNvSpPr/>
            <p:nvPr/>
          </p:nvSpPr>
          <p:spPr>
            <a:xfrm flipH="1">
              <a:off x="2742840" y="4332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" name=""/>
            <p:cNvGrpSpPr/>
            <p:nvPr/>
          </p:nvGrpSpPr>
          <p:grpSpPr>
            <a:xfrm>
              <a:off x="2438280" y="3781800"/>
              <a:ext cx="1239840" cy="1190880"/>
              <a:chOff x="2438280" y="3781800"/>
              <a:chExt cx="1239840" cy="1190880"/>
            </a:xfrm>
          </p:grpSpPr>
          <p:sp>
            <p:nvSpPr>
              <p:cNvPr id="162" name="Freeform 81"/>
              <p:cNvSpPr/>
              <p:nvPr/>
            </p:nvSpPr>
            <p:spPr>
              <a:xfrm>
                <a:off x="2470320" y="37818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Text Box 82"/>
              <p:cNvSpPr/>
              <p:nvPr/>
            </p:nvSpPr>
            <p:spPr>
              <a:xfrm>
                <a:off x="2438280" y="40136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4" name=""/>
            <p:cNvGrpSpPr/>
            <p:nvPr/>
          </p:nvGrpSpPr>
          <p:grpSpPr>
            <a:xfrm>
              <a:off x="4094280" y="3781800"/>
              <a:ext cx="1239840" cy="1190880"/>
              <a:chOff x="4094280" y="3781800"/>
              <a:chExt cx="1239840" cy="1190880"/>
            </a:xfrm>
          </p:grpSpPr>
          <p:sp>
            <p:nvSpPr>
              <p:cNvPr id="165" name="Freeform 30"/>
              <p:cNvSpPr/>
              <p:nvPr/>
            </p:nvSpPr>
            <p:spPr>
              <a:xfrm>
                <a:off x="4121280" y="37818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Text Box 54"/>
              <p:cNvSpPr/>
              <p:nvPr/>
            </p:nvSpPr>
            <p:spPr>
              <a:xfrm>
                <a:off x="4094280" y="40320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7" name="Freeform 50"/>
            <p:cNvSpPr/>
            <p:nvPr/>
          </p:nvSpPr>
          <p:spPr>
            <a:xfrm>
              <a:off x="5715000" y="37749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51"/>
            <p:cNvSpPr/>
            <p:nvPr/>
          </p:nvSpPr>
          <p:spPr>
            <a:xfrm>
              <a:off x="5694480" y="38548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27"/>
            <p:cNvSpPr/>
            <p:nvPr/>
          </p:nvSpPr>
          <p:spPr>
            <a:xfrm flipH="1">
              <a:off x="2819160" y="56829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" name=""/>
            <p:cNvGrpSpPr/>
            <p:nvPr/>
          </p:nvGrpSpPr>
          <p:grpSpPr>
            <a:xfrm>
              <a:off x="2362320" y="5130720"/>
              <a:ext cx="1420560" cy="1189440"/>
              <a:chOff x="2362320" y="5130720"/>
              <a:chExt cx="1420560" cy="1189440"/>
            </a:xfrm>
          </p:grpSpPr>
          <p:sp>
            <p:nvSpPr>
              <p:cNvPr id="171" name="Freeform 57"/>
              <p:cNvSpPr/>
              <p:nvPr/>
            </p:nvSpPr>
            <p:spPr>
              <a:xfrm>
                <a:off x="2511360" y="51307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Text Box 58"/>
              <p:cNvSpPr/>
              <p:nvPr/>
            </p:nvSpPr>
            <p:spPr>
              <a:xfrm>
                <a:off x="2362320" y="53658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" name=""/>
            <p:cNvGrpSpPr/>
            <p:nvPr/>
          </p:nvGrpSpPr>
          <p:grpSpPr>
            <a:xfrm>
              <a:off x="4094280" y="5062680"/>
              <a:ext cx="1239840" cy="1189800"/>
              <a:chOff x="4094280" y="5062680"/>
              <a:chExt cx="1239840" cy="1189800"/>
            </a:xfrm>
          </p:grpSpPr>
          <p:sp>
            <p:nvSpPr>
              <p:cNvPr id="174" name="Freeform 34"/>
              <p:cNvSpPr/>
              <p:nvPr/>
            </p:nvSpPr>
            <p:spPr>
              <a:xfrm>
                <a:off x="4143240" y="50626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Text Box 61"/>
              <p:cNvSpPr/>
              <p:nvPr/>
            </p:nvSpPr>
            <p:spPr>
              <a:xfrm>
                <a:off x="4094280" y="5365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" name=""/>
            <p:cNvGrpSpPr/>
            <p:nvPr/>
          </p:nvGrpSpPr>
          <p:grpSpPr>
            <a:xfrm>
              <a:off x="5715000" y="5130720"/>
              <a:ext cx="1239840" cy="1189440"/>
              <a:chOff x="5715000" y="5130720"/>
              <a:chExt cx="1239840" cy="1189440"/>
            </a:xfrm>
          </p:grpSpPr>
          <p:sp>
            <p:nvSpPr>
              <p:cNvPr id="177" name="Freeform 63"/>
              <p:cNvSpPr/>
              <p:nvPr/>
            </p:nvSpPr>
            <p:spPr>
              <a:xfrm>
                <a:off x="5734080" y="51307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Text Box 64"/>
              <p:cNvSpPr/>
              <p:nvPr/>
            </p:nvSpPr>
            <p:spPr>
              <a:xfrm>
                <a:off x="5715000" y="53658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F256E8-5C5F-40CE-8BB9-209FBFD419E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579600"/>
            <a:ext cx="77724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ssessment—Audit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762120" y="1295280"/>
            <a:ext cx="761976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ystematic examination of some part (or all) of the 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formance with requirem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3733920" y="3505320"/>
            <a:ext cx="2889000" cy="301932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1371600" y="3809880"/>
            <a:ext cx="1905120" cy="1752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80EDC1-8481-45F2-8BE8-55581CFAAD3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ubOvalCallout"/>
          <p:cNvSpPr/>
          <p:nvPr/>
        </p:nvSpPr>
        <p:spPr>
          <a:xfrm>
            <a:off x="228600" y="1143000"/>
            <a:ext cx="7086600" cy="5410080"/>
          </a:xfrm>
          <a:custGeom>
            <a:avLst/>
            <a:gdLst>
              <a:gd name="textAreaLeft" fmla="*/ 1037520 w 7086600"/>
              <a:gd name="textAreaRight" fmla="*/ 6049080 w 7086600"/>
              <a:gd name="textAreaTop" fmla="*/ 594360 h 5410080"/>
              <a:gd name="textAreaBottom" fmla="*/ 3465360 h 5410080"/>
            </a:gdLst>
            <a:ahLst/>
            <a:rect l="textAreaLeft" t="textAreaTop" r="textAreaRight" b="textAreaBottom"/>
            <a:pathLst>
              <a:path w="21600" h="21600">
                <a:moveTo>
                  <a:pt x="12321" y="21600"/>
                </a:moveTo>
                <a:lnTo>
                  <a:pt x="9590" y="16159"/>
                </a:lnTo>
                <a:arcTo wR="10800" hR="8105" stAng="5912517" swAng="-19304424"/>
                <a:close/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at is an assessment?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447560" y="1523520"/>
            <a:ext cx="4800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Someone is asking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6616800" y="2438280"/>
            <a:ext cx="2527200" cy="281952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1219320" y="2209680"/>
            <a:ext cx="5181480" cy="32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What is being done?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How does this comply with written policies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and procedur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8F0056-EAE8-4C2A-AEC9-AC8A47FA73E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588600"/>
            <a:ext cx="777240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y perform an assessment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learn “where we are” in terms of quality managemen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easure gap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need information for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586800" indent="-2257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lanning and implement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586800" indent="-2257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ing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586800" indent="-2257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tinuous improv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6553080" y="2057400"/>
            <a:ext cx="1905120" cy="177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464A1C-21D9-4B7B-96BD-5CF634ABB3C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4719600" cy="5029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6095880" y="2438280"/>
            <a:ext cx="2743200" cy="381024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172200" y="2971800"/>
            <a:ext cx="2666880" cy="236232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Outside group or ag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752480" y="1752480"/>
            <a:ext cx="2362320" cy="11912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00"/>
                </a:solidFill>
                <a:latin typeface="Verdana"/>
              </a:rPr>
              <a:t>Internal aud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867280" y="1066680"/>
            <a:ext cx="312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7d"/>
                </a:solidFill>
                <a:latin typeface="Verdana"/>
              </a:rPr>
              <a:t>External aud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4876560" y="3962520"/>
            <a:ext cx="11430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4800600" y="2438280"/>
            <a:ext cx="1371600" cy="30492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H="1" flipV="1">
            <a:off x="4800240" y="5410080"/>
            <a:ext cx="1219320" cy="60984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914400"/>
            <a:ext cx="44197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uality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089000" y="1211400"/>
            <a:ext cx="1654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rot="5400000">
            <a:off x="1523880" y="3276360"/>
            <a:ext cx="1143000" cy="53352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rot="13572000">
            <a:off x="3352680" y="4876200"/>
            <a:ext cx="1143000" cy="53352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273363-42AC-4C9E-84BE-82D9E17C7B8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1001880" y="2971800"/>
            <a:ext cx="2176200" cy="269064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 rot="10800000">
            <a:off x="3580920" y="4800600"/>
            <a:ext cx="2667240" cy="838080"/>
          </a:xfrm>
          <a:custGeom>
            <a:avLst/>
            <a:gdLst>
              <a:gd name="textAreaLeft" fmla="*/ 416520 w 2667240"/>
              <a:gd name="textAreaRight" fmla="*/ 2333880 w 266724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rot="5400000">
            <a:off x="7238520" y="2285640"/>
            <a:ext cx="1828800" cy="76212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33520" y="45720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ath of Workfl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838080" y="1447920"/>
            <a:ext cx="792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PATIENT                   Test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14600" y="1447920"/>
            <a:ext cx="914400" cy="380880"/>
          </a:xfrm>
          <a:custGeom>
            <a:avLst/>
            <a:gdLst>
              <a:gd name="textAreaLeft" fmla="*/ 114120 w 914400"/>
              <a:gd name="textAreaRight" fmla="*/ 800280 w 9144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257800" y="1447920"/>
            <a:ext cx="1295280" cy="380880"/>
          </a:xfrm>
          <a:custGeom>
            <a:avLst/>
            <a:gdLst>
              <a:gd name="textAreaLeft" fmla="*/ 161640 w 1295280"/>
              <a:gd name="textAreaRight" fmla="*/ 1133640 w 12952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553080" y="14479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Col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477120" y="243828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638680" y="3657600"/>
            <a:ext cx="3276720" cy="642600"/>
          </a:xfrm>
          <a:prstGeom prst="rect">
            <a:avLst/>
          </a:prstGeom>
          <a:solidFill>
            <a:srgbClr val="ffff99"/>
          </a:solidFill>
          <a:ln w="57240">
            <a:solidFill>
              <a:srgbClr val="d50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boratory Analysis </a:t>
            </a: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400800" y="50292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Cre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657600" y="502920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34320" y="4419720"/>
            <a:ext cx="76176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514600" y="1905120"/>
            <a:ext cx="6095880" cy="368280"/>
          </a:xfrm>
          <a:prstGeom prst="rect">
            <a:avLst/>
          </a:prstGeom>
          <a:solidFill>
            <a:srgbClr val="bd8d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Pre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990720" y="5791320"/>
            <a:ext cx="7848360" cy="368280"/>
          </a:xfrm>
          <a:prstGeom prst="rect">
            <a:avLst/>
          </a:prstGeom>
          <a:solidFill>
            <a:srgbClr val="ae84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ult Interpretation                   </a:t>
            </a: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Post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A6A48A-AC57-45B8-BF95-938F3FA6424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6:58Z</dcterms:modified>
  <cp:revision>125</cp:revision>
  <dc:subject/>
  <dc:title>Slide 1</dc:title>
</cp:coreProperties>
</file>